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7C7-1346-43AD-8C33-3F9CC257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7A6-33BF-420F-81AF-F91C96B0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B73-ECC3-4AA1-9887-708869A3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A7C-FE77-4BFB-B80F-B885B0AE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DE4-3A64-41AC-9343-8361729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048-3CB7-44E4-A9AB-9097D1D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2FE-6EA2-46A9-9044-ED22A43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D4E-045B-4048-B002-31BFA88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EDB-F8B4-4189-AA22-1DBADDE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8E-768B-4E0D-AE77-6B3E8F5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70C-564F-4178-B4E4-CA3E164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2C2-778C-430D-BFEB-6FE514B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EE34-B123-49CB-9473-E20EB1BB6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7. Unifitseeri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tõestame lauset kujul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kasutame sekventside paremreeglit või fokuseerimist, siis peame kasutama termi t ja tõestama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vantori väärtuste hulk võib olla lõpmatu (nt. naturaalarvude hulk), seega ei saa me valida lihtsalt kõiki võimalusi läbi katseta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bstitutsiooni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 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s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isem 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ii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uutujat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mbernimetamise täpsuseni sama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 nimetatakse kahe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kaator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tseeritav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neile leidub unifikaator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üldisem unifikaator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general unifier, mgu), 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ikaator ning ükski teine unifikaator pole sellest üldis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ks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unifitseeritavad, siis leidub nende jaoks muutujat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mbernimetamise täpsuseni üheselt määratud kõige üldisem unifika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on unifitseeritavad substitutsioon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unifitseerib nad samuti, ag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ene substitutsioon on üldis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 unifitseeritavad, se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leks asendada ni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i k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e termi unifitseerimiseks on mitmeid algoritme. Robinsoni originaalalgoritm kasutas ebakõlapaar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greement pair) mõis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e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akõlapaar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aar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aval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ised alamtermid, et termidest puudena mõelde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ured märgenda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nevate sümbolitega, aga teed vastaval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urtest kuni nendeni on märgenda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de sümbolit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rm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juures moodustav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bakõlapa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ks termi erinevad, peab nende vahel olema üks või enam ebakõlapaari. 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itseerib ter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ab ta unifitseerima iga nen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akõlapaar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i unifitseerimisalgorit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[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eeme järgm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m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gi ebakõlapaar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umbki termid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le muutuja, siis ebaõnnest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 termid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mis on muutuja (kui mõlemad on muutujad, siis ükskõik kumb) ja olgu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ne nendest,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ineb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, siis ebaõnnestu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õige üldisem unifika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aitab meid tehnika, mille nimeks on unifitseerimine. Selle põhi-idee on üsna lihtne: me lükkam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iku hilisemaks ja võtame selle asemel kasutusele uue muutuja (mida sageli nimetatakse metamuutujujaks või loogiliseks muutujaks) ja jätkame tõestuskäigu alt-üles konstrueerimist. Kui jõuame algsekventsideni, siis  kontrollime, kas leidub sellist muutujate substitutsiooni, et hüpotees sobiks järelduse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jah, siis rakendame seda meie osalisele tuletuskäigule ja jätkame teiste alamülesannete lahendam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list muutujate substitutsiooni otsimist, mille korral kaks lauset või termi sobituvad, nimetatakse unifitseerimise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em, kas unifitseeriv substitutsioon leidub, on lahenduv, ja me saame seda efektiivselt lineaarse ajaga leida. Veelgi enam, see on leitav ühesel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ks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etatakse termide omistust muutujatele. Laiendame mõistet termid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uutu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indiviidk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funktsioonik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de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kompositsiooni all mõeldakse sellist substitutsioon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muutu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on näha, et iga ter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de kompositsioon on assotsiatiivn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sioon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gihulgaks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etatakse nende muutuja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ulka, mille kor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.t see on nende muutujate hulk, mille substitutsioon millegi erinevaga asend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ahel substitutsioonil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plik tugi, siis on lõplik tugi ka nen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ositsioo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substitutsioonil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plik tugi, olgu sellek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usjuure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atakse seda sagel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sussubstitutsiooni tähise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[] (tugi on tühi hulk, iga muutuja asendatakse iseendag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need muutujad nimekirja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s nimekirja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n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, g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h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 z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tleme, et 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substitutsioonis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is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leidub selline substitutsio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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1:21:21Z</dcterms:created>
  <dc:creator>Tiina Zingel</dc:creator>
  <dc:description/>
  <dc:language>en-US</dc:language>
  <cp:lastModifiedBy>Tiina Zingel</cp:lastModifiedBy>
  <dcterms:modified xsi:type="dcterms:W3CDTF">2006-03-31T11:57:51Z</dcterms:modified>
  <cp:revision>2</cp:revision>
  <dc:subject/>
  <dc:title>7. Unifitseerimine</dc:title>
</cp:coreProperties>
</file>